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D82-7388-47A8-A7DB-EBB1981B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BE3-C234-478A-A864-5B0788E0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592-D7C7-4778-B1AE-AC6EC3C0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47D-8AA9-44EE-B939-BACDBD6E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6285-5FDB-4264-9A00-BD8CA9A4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C63-9FBA-4332-BF12-EFC46284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BC4-1812-441F-B11F-C8E72E65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D19-27D6-4B11-8334-6F910F94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E3B-24A3-47D0-A212-E1DE83F8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FAE-F5AB-471B-9CA5-2C259435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331-489A-4CC2-8951-04D28A81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0D0-1441-4D2D-85DE-CF1F9991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105B-00C9-45F9-9AA3-A68CC67AC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&#1057;&#1091;&#1076;&#1100;&#1073;&#1072;_&#1095;&#1077;&#1083;&#1086;&#1074;&#1077;&#1082;&#1072;_(&#1087;&#1086;&#1089;&#1090;&#1077;&#1088;_&#1092;&#1080;&#1083;&#1100;&#1084;&#1072;)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1640" y="333000"/>
            <a:ext cx="41734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борочное изло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Постер фильм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3645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хемы описания  к изложени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Отец»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 рост, фигура; 2) рук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 глаза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 голос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) одежда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«Сын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 возраст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 глаза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 рук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 одеж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4327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От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жчина — высокий, сутуловаты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глушенный бас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черствая рук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щий вещевой мешок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щитные летние штан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рнутый в трубку    малиновый шелковый потертый кисет с надписью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Большие темные ру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Глаза, словно присыпанные пеплом, наполненные неизбывной тоск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Прожженный в нескольких местах ватник небрежно и грубо заштопан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Латка на выношенных защитных штанах не пришита как следует, а наживле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Новые солдатские ботин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Плотные шерстяные носки изъедены мол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59280" y="47592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Мальч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 пяти-ш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за светлые, как небуш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зовая холодная ручо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есые бр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ьчик одет просто, но добро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иннополая куртка, подбитая легкой,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ношенной цигей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хотные сапожки с расчетом н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рстяной нос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усный шов на    рукаве курт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6600"/>
                </a:solidFill>
                <a:uFillTx/>
                <a:latin typeface="Arial"/>
              </a:rPr>
              <a:t>Запись возможного нача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 А. Шолохов в самом начале своей повести «Судьба человека» знакомит нас с двумя основными героями. Один из них, судя по деталям портрета,— бывший фронтовик, много переживший за свою жизнь человек (вспомним глаза его с «неизбывной смертной тоской»); другой — трогательно доверчивый мальчик, о котором кто-то по-матерински забот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i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 </a:t>
            </a:r>
            <a:r>
              <a:rPr b="1" i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Возможное начало изложения (на выбор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дин из героев повести М. А. Шолохова «Судьба человека» — высокий сутуловатый мужчина..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первой странице повести «Судьба человека» мы знакомимся с двумя ее основными героями. Один — это... и т. 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8:01:20Z</dcterms:created>
  <dc:creator>Инна</dc:creator>
  <dc:description/>
  <dc:language>en-US</dc:language>
  <cp:lastModifiedBy>BLACKGIRL</cp:lastModifiedBy>
  <dcterms:modified xsi:type="dcterms:W3CDTF">2010-01-29T23:10:06Z</dcterms:modified>
  <cp:revision>3</cp:revision>
  <dc:subject/>
  <dc:title>Выборочное изложение</dc:title>
</cp:coreProperties>
</file>